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32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3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480" y="0"/>
            <a:ext cx="29430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20880" y="742680"/>
            <a:ext cx="4952880" cy="371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08960"/>
            <a:ext cx="2943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480" y="9408960"/>
            <a:ext cx="29430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A322B-B576-44E6-82B9-D88D85D3B5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906480" y="4704840"/>
            <a:ext cx="4981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image up, pulse given 25 nm before top of i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image d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 is: we were able to shorten the MWNT tip in air without loosing it complete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difficult, more difficult than in SEM where you can see what you are do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tabilities happen only on regions with high corrug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90492-6F90-4900-927C-DBBD374D5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6A00C-BD4E-4838-B1C4-9DE08187E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20E24-AC5F-4FBB-ABF0-1AF704EC6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69F0A-C90B-45D7-BFDB-4C5FFCDA2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C167B-35A8-4FA2-8B43-0DD3EFC64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19F23-4E68-4AA8-9C8A-610973C28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D801A-2CB7-4EFA-9D29-B0686F818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9A5F1-2F6B-4370-AF3C-5ECF169B6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67B08-FF82-4CC9-BCA9-4D6D79B72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97ED2-8AED-4BE2-A326-F1517682B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5164B-2350-446D-85C3-AC8A12501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5DEDB-30A4-44A8-85B5-A59B566A9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BB0CF-0DAB-49E9-B803-1C63B84D30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rcRect l="0" t="27162" r="0" b="49991"/>
          <a:stretch/>
        </p:blipFill>
        <p:spPr>
          <a:xfrm>
            <a:off x="347760" y="4489560"/>
            <a:ext cx="8447040" cy="14475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117880" y="949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>
            <a:lum contrast="18000"/>
          </a:blip>
          <a:srcRect l="1802" t="50515" r="71134" b="32648"/>
          <a:stretch/>
        </p:blipFill>
        <p:spPr>
          <a:xfrm>
            <a:off x="609480" y="907920"/>
            <a:ext cx="3962520" cy="18496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5556960" y="755640"/>
            <a:ext cx="257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Z piezo step 277 n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609480" y="128916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90720" y="533520"/>
            <a:ext cx="1241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ca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5867280" y="1365120"/>
            <a:ext cx="2362320" cy="1968480"/>
            <a:chOff x="5867280" y="1365120"/>
            <a:chExt cx="2362320" cy="1968480"/>
          </a:xfrm>
        </p:grpSpPr>
        <p:pic>
          <p:nvPicPr>
            <p:cNvPr id="55" name="" descr=""/>
            <p:cNvPicPr/>
            <p:nvPr/>
          </p:nvPicPr>
          <p:blipFill>
            <a:blip r:embed="rId3"/>
            <a:srcRect l="37379" t="9122" r="46383" b="72841"/>
            <a:stretch/>
          </p:blipFill>
          <p:spPr>
            <a:xfrm>
              <a:off x="5867280" y="1365120"/>
              <a:ext cx="2362320" cy="196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6095880" y="2812680"/>
              <a:ext cx="1905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198720" y="3657600"/>
            <a:ext cx="6101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eck if MWNT is short enough for imag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age thin niobium film, grain size around 10 n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58920" y="5997600"/>
            <a:ext cx="8404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bit too long: feedback instabilities are caused by bending response of MW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713040" y="6424560"/>
            <a:ext cx="538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ef. Snow, E.S., Campbell, P.M., and Novak, J.P., APL 80 (2002), 2002-200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4T10:20:09Z</dcterms:created>
  <dc:creator>Dionne</dc:creator>
  <dc:description/>
  <dc:language>en-US</dc:language>
  <cp:lastModifiedBy>Dionne</cp:lastModifiedBy>
  <dcterms:modified xsi:type="dcterms:W3CDTF">2005-01-24T10:27:31Z</dcterms:modified>
  <cp:revision>2</cp:revision>
  <dc:subject/>
  <dc:title>Slide 1</dc:title>
</cp:coreProperties>
</file>